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672AB5-E6CB-4DD6-9221-F1AEF2D8860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1FE2F8-E488-4E14-AD52-35134C72C7E3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3DEAB273-0594-45AC-89FD-215274B4484F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47640" y="2492280"/>
              <a:ext cx="20527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2916360" y="4029120"/>
              <a:ext cx="3671640" cy="28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>
              <a:lum bright="8000"/>
            </a:blip>
            <a:stretch/>
          </p:blipFill>
          <p:spPr>
            <a:xfrm>
              <a:off x="7067520" y="0"/>
              <a:ext cx="2076480" cy="5010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484360" y="5278320"/>
            <a:ext cx="2376720" cy="157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84360" y="5278320"/>
                      <a:ext cx="237672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419640" cy="32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0" y="3068640"/>
              <a:ext cx="287496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348000" y="0"/>
              <a:ext cx="3456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tretch/>
          </p:blipFill>
          <p:spPr>
            <a:xfrm>
              <a:off x="6318360" y="3860640"/>
              <a:ext cx="2825640" cy="29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3460680" y="2997360"/>
            <a:ext cx="2222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Initi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ading the news agenda at CeBIT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37800"/>
            <a:ext cx="7710480" cy="44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nal part of the trilogy  supporting the brand roll ou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cus on creating strong visual images for broadcast media and photographers and capturing pre-event coverage opportun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sults from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March 8 to 13…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75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media attendees at booth incl. 35 tv teams and incl. 350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ernational 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1000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press kits were distributed at booth and press cen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633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clippings achieved so far (just five countries are covered!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447840" indent="-2638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2 print, 437 online, 64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41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media received interviews with executive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182160" indent="-180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tory featured on at least </a:t>
            </a: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5 news wires</a:t>
            </a: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 incl. dpa, Reuters, ddp, ap and afp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051520"/>
            <a:ext cx="2016000" cy="134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8880" y="2144880"/>
            <a:ext cx="1226880" cy="16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402160" y="5099040"/>
            <a:ext cx="2049480" cy="136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987640" y="5051520"/>
            <a:ext cx="2089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920" y="48960"/>
            <a:ext cx="893772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has launched several new handsets in Q1 2006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1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84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87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0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94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1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12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15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&gt;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52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Product line up shows strong leadership posit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68440" y="4523040"/>
            <a:ext cx="7731000" cy="1646280"/>
            <a:chOff x="568440" y="4523040"/>
            <a:chExt cx="7731000" cy="1646280"/>
          </a:xfrm>
        </p:grpSpPr>
        <p:sp>
          <p:nvSpPr>
            <p:cNvPr id="134" name=""/>
            <p:cNvSpPr/>
            <p:nvPr/>
          </p:nvSpPr>
          <p:spPr>
            <a:xfrm>
              <a:off x="2506680" y="4523040"/>
              <a:ext cx="5792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0 of 12 cameras of up to 3.2 megapixel (multimedia came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1 of 12 with multimedia functi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mera, 16x digital and auto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ogle sear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RM "PlaysforSure" (Microso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440" y="481968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880" y="4797000"/>
              <a:ext cx="15876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ultimedia and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8440" y="2748600"/>
            <a:ext cx="7940520" cy="1646280"/>
            <a:chOff x="568440" y="2748600"/>
            <a:chExt cx="7940520" cy="1646280"/>
          </a:xfrm>
        </p:grpSpPr>
        <p:sp>
          <p:nvSpPr>
            <p:cNvPr id="138" name=""/>
            <p:cNvSpPr/>
            <p:nvPr/>
          </p:nvSpPr>
          <p:spPr>
            <a:xfrm>
              <a:off x="568440" y="2919240"/>
              <a:ext cx="1735200" cy="102744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440" y="2895480"/>
              <a:ext cx="14666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sign and user exper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6680" y="2748600"/>
              <a:ext cx="60022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 M design: materials, mechanics, miniatu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imline in bar, slider, clamshell form f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/3 of products have at least one design a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ast key, dedicated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1135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implicity in menu and 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8440" y="1141200"/>
            <a:ext cx="6275160" cy="1371960"/>
            <a:chOff x="568440" y="1141200"/>
            <a:chExt cx="6275160" cy="1371960"/>
          </a:xfrm>
        </p:grpSpPr>
        <p:sp>
          <p:nvSpPr>
            <p:cNvPr id="142" name=""/>
            <p:cNvSpPr/>
            <p:nvPr/>
          </p:nvSpPr>
          <p:spPr>
            <a:xfrm>
              <a:off x="568440" y="1355760"/>
              <a:ext cx="1735200" cy="10270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3240" y="1456920"/>
              <a:ext cx="1403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eadership in </a:t>
              </a:r>
              <a:r>
                <a:rPr b="1" lang="en-GB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6680" y="1141200"/>
              <a:ext cx="43369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3G HSDPA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display technology: OLED, I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multi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2520" indent="-1810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novation in Services Over the 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10Z</dcterms:modified>
  <cp:revision>530</cp:revision>
  <dc:subject/>
  <dc:title>All-hands meeting</dc:title>
</cp:coreProperties>
</file>